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anor M. Savk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57CAA-CF97-42C5-871A-D48F0C5FA9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4CCA1-49C0-4AF5-BCCE-D1C67AC954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anor M. Savko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8847E-2AE8-48AA-A0FB-92A990B03E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8D1B-6480-48CA-8F51-57B2E0214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8E60-5AA8-4EB0-BE52-B78783303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273397-AFC2-4044-A334-047AF8F24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BC3CEA-1A0A-462A-9525-27A199CAD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723E27-7849-491B-9949-DE7FE75B0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C362D5-4323-416C-ADF1-04A8EB1B4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7F49BC-B84C-452C-8253-0E87B96A9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5CC0B6-E213-4D5E-9467-AC017FCF7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B1B903-DFD3-4BB8-ABAE-66226E59B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639276-C654-4DA9-A1B9-2F96AEB49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31483C-160C-40D5-B353-C53D6F52F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F6F8A1-5B60-4E29-B8C7-4FC9CF7AB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CB55-5B9B-4158-9F50-50E922FB2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32AA7D-6959-49FE-8703-EA269D6AC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4F5AD4-E53A-468E-AC45-D77D2A82D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ADA4CA-7314-426D-91DB-35CB0C56E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9CF183-176F-48D3-A799-B32E7F28E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FFFD9A-DA19-429A-84D3-8EA08AED8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22CC82-FBCC-44CF-B428-4E7C07B11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88A8B9-5886-4690-AF1F-E1F1A95D2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2B016F-29A5-43D6-8113-9BC668FB9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4AD42C-43DE-4C8A-95C1-433E61125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017D7F-E8E3-46EC-BB84-D41E7AA58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FDDE-A308-4849-AAF4-945888C9C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B9EBB7-6045-4599-88A5-03A89AF6A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848629-45C0-4B93-82EC-5D8485FAA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2B9C39-FB51-4C42-A26A-18623DA9D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02CA34-99D5-4E12-B787-0A3CFC10B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124257-F9CE-4C18-9F5A-CD65AF9AB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09AF8F-4A43-4220-8861-B0CC7E14F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2A9476-1A81-4FE4-AA64-83CBB0714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97104B-F085-4F9F-A2E8-78B932E52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1CB8A5-F6CB-4CD9-9C7E-5D70728D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C5A091-256A-4AF9-B06B-FA43CB23B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9B298-B62B-4C9C-98A8-61C27DA2A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FD113B-5966-49CC-8A97-9CB94151D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932CEF-3A30-435A-839A-1F25E5992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134AA8-0B02-41FB-AB8E-D0BF14308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131390-E63E-4295-BB29-E7F03B5BD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2AA3A5-131D-47C0-B8F5-87756275E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265B60-6291-43B1-BC0B-549A83920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3983B1-03FB-41EB-9455-2F3404BA4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6694EB-97AA-452A-A13D-7B46251CC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F547D8-6295-412A-BC5D-DD6481B79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686362-12CC-43B2-B5F1-09FCF97FA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E602D-34D7-4268-B5B4-52968D7BB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4BDBE1-7597-4058-A19E-714C65515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A05141-2E8A-4241-B9EC-CC244EBB2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E2D261-51EE-43F7-840A-C241871AF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C4F61D-B049-4813-9855-88AD82AEE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C36BCC-C1F0-46D2-9808-A000245B7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7558C-7026-457B-A95F-EBB3E4B6D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4589E-94FE-4C85-862D-2B561549D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3290A-DC18-4A18-8CFC-58F0AE9A6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A769B-1E4B-462B-A50B-C57D703BF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1E278-178B-42D9-91DC-C0F57576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D8ED-0BCF-4338-B8AF-DCF62E27B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29966-80BE-4681-A398-696702A53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DE223-EA90-4C2B-91C7-2CAD70A60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F3EFA-AAC8-497C-8195-FE282B48A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A331F-02A2-4938-89CD-C3A6CB173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D7179-AD09-4D2E-B9D5-A72A92C48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889E7-362D-417F-9893-AA75AE5F8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B91CD-BF48-4291-BC25-F61A8B22F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0696A-A4E3-42F4-8E1C-BB043BDBB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ADD35-3B05-4C38-B376-602A4807A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3F82F-D1CF-44D2-AEF5-3164B1AFF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1961-B66F-48B1-8ECF-FA21B7BFC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FF9F9-CFC3-4460-A97D-B7DF9B8C9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980FD-DF2B-4595-9E14-441EFF323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596E2-3266-41FA-9ECC-DEBE67770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8AD98-2DAF-4131-A6E5-E64E7176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CF6D9-0527-4536-9EDC-5F0B74B74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4E411-B81C-46E7-8F9B-1345A584C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63C19-D5FA-40D1-8718-B56DA396D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F9D8E-E897-45FD-AA0E-CA05B307E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E33D8-7BD4-491D-9083-B0704F40E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B37C2-8A1C-422C-AD86-AEF9A88CC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2926-3125-4358-BE3A-19AD45D37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5E669-2A82-4197-BD27-DB1280636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0CA8B-EF8B-4A1A-B5B5-6E08DC499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4515C-1FD8-4020-929C-1424E904E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0F136-171F-4EC4-A0FB-9D4A67E4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0CBF5-C1B3-4E08-A51B-B0D0B2A54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FE5F7-2DF0-4D06-96F8-449EAEBB4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69487-BCF2-4654-809D-D3511EB00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7245F-3403-4063-AC5B-2BD9F367F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62E36-FF85-4960-9E75-FAB318EF2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04AD47-AFD8-4962-A3EA-0B47187AD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9DE4-7416-4D47-8D63-7727D8912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0F5DC4-F3D0-4D95-A4C5-12C3EF5B1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8F089-B0DE-4D52-8BBA-CB558887D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62144A-76B9-4944-9C9C-6E641C5F5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21686-9E07-43F6-8F49-89173DFD4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30839-B9A6-493C-8EDD-48DFD54DA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F4BDEE-5661-4554-95DB-11B40AC33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034820-E860-4AC8-A32C-1386A892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64938F-DFDC-4667-9612-2553676BE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3657AB-CDA4-4C6E-ACB8-22D95E9D9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5D81E9-1DC2-424B-988A-44FCE4264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FB7C-4407-4586-A904-078D6666F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6DA0A0-377B-4985-BBC1-3E038634A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7E9D2-AA04-40F8-9136-C827D4909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994CBD-C145-492A-8FDD-E752C3FC8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8A5469-37DA-4C57-A0F5-7F9AB62F6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71DD2E-0AE3-473B-BA75-4CF95BCF0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247B77-F17A-4D22-890F-8759BDD18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AB0E26-B8E6-4C89-BC25-D1D5B2116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78550F-B045-4EFF-A46E-44EBC74D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CE45F0-7469-4B37-8600-530457FE3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E23B3E-22DD-473F-A0FC-ABBDAF0C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7F52-B40A-4A30-805A-37892B71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D0F4C8-5ECD-4736-8B07-6503A1BCC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0AA63A-2861-42A6-A71F-81984D4D4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D34CD9-CFA5-4172-ACAC-494F43AC5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A9829D-AF22-4EA3-A910-F002F0D2A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97D992-072A-4465-AB48-2521A19AB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B445F4-0D8C-48F0-9593-A2E24EC48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468363-92C5-4A33-AA68-5FB91EEAA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6AD39A-3587-43AA-8180-94DE1035D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58D8AB-FBE1-40B5-AB4F-FF87FE823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F12EE4-827C-4152-8A6F-E13106BA1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B471-2478-4A20-B6D0-A10397A8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F901D7-BBB3-4D0B-90AE-45C34CEA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A0AC3C-08E7-4D9F-BCD2-D94FBF32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E920E4-CEC4-435F-AF42-7CB319D99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C37111-43DA-4825-8137-EF9D49E33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344D20-EA17-4C79-9F6D-6E65F9230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B9259F-48C9-46EE-B787-6191B98CF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B53C30-92E4-434E-995C-D6458D160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D9D2FE-CCA2-43F3-A571-1163E1148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BF5A9D-630F-46E6-A3AA-D3CFD6137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F97B79-AF3A-434A-8A13-9F74A49DE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E2E5-8568-406D-8319-CE051CEF9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1FD3E1-B9E2-49B3-9C82-38B5B5D95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950F11-B925-45DB-8E38-F9A8E808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498482-B6A5-46EE-9583-261B54F27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35BAD0-C681-4ADA-8742-3DB7FACD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606958-825D-4D8D-B663-E04A9034E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EF6BAA-3210-4A68-A0DD-956C3EFA5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BB208D-A7FF-41A2-872A-BCBD32D95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E850D9-311A-45BB-A101-1A36E82B4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4CE93C-99BE-44F1-A2E0-E0FA65A3B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2A5618-327B-47DE-A1B6-5BADC2330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1E4C1-CF12-4B21-8891-083EC80618A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56D9D-8DD0-4D77-AAD8-FE7A4EF533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81CE0-E382-48A8-AFDA-5C22C6B5184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27F78-7AA3-41A3-8380-E0B97DBE6B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B341B-3C8E-4119-A8A7-1AE255D2621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DF2D1-7EFE-458F-8FCC-2F006AC278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58E20-B791-447F-9E78-CF95A0FFEA2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194F1-5108-4C3D-9599-644DAFA8A6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6B077-73D0-4FC0-9293-3816519DDA5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E072C-B70C-4110-99E6-D16F38B20D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FF10F-563A-4BAA-8C5C-030F30689D4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9D5F5-5920-44EC-869F-67747C177F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4980F-8AAA-4D05-BC47-66E681EF793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04706-54BD-4AD8-BE03-6D86985DED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FF81D-9688-4B0D-968E-746A82E06DA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A8ECE-4478-4885-ADBE-7233A8CAE7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32D34-00CD-48C3-BD10-37FF4920522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FA256-BE08-4F0B-BE2C-977FC2D90A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45FE6-50EA-42DA-AC83-5145B82C509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0580B-CD4E-41E5-A0C4-BF00630D41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05CAB-0244-4713-BBE2-D1F0C3664E5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C5B63-ED87-4E4A-80B1-391831B897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BF65E-4D8F-4986-83D2-8F42FCC315D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D14B2-26AE-4C03-AC87-E86FA60406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slide6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" Target=""/><Relationship Id="rId8" Type="http://schemas.openxmlformats.org/officeDocument/2006/relationships/slide" Target="slide10.xml"/><Relationship Id="rId9" Type="http://schemas.openxmlformats.org/officeDocument/2006/relationships/slide" Target=""/><Relationship Id="rId10" Type="http://schemas.openxmlformats.org/officeDocument/2006/relationships/slide" Target="slide12.xml"/><Relationship Id="rId11" Type="http://schemas.openxmlformats.org/officeDocument/2006/relationships/slide" Target=""/><Relationship Id="rId12" Type="http://schemas.openxmlformats.org/officeDocument/2006/relationships/slide" Target="slide14.xml"/><Relationship Id="rId13" Type="http://schemas.openxmlformats.org/officeDocument/2006/relationships/slide" Target=""/><Relationship Id="rId14" Type="http://schemas.openxmlformats.org/officeDocument/2006/relationships/slide" Target="slide16.xml"/><Relationship Id="rId15" Type="http://schemas.openxmlformats.org/officeDocument/2006/relationships/slide" Target=""/><Relationship Id="rId16" Type="http://schemas.openxmlformats.org/officeDocument/2006/relationships/slide" Target="slide18.xml"/><Relationship Id="rId17" Type="http://schemas.openxmlformats.org/officeDocument/2006/relationships/slide" Target=""/><Relationship Id="rId18" Type="http://schemas.openxmlformats.org/officeDocument/2006/relationships/slide" Target="slide20.xml"/><Relationship Id="rId19" Type="http://schemas.openxmlformats.org/officeDocument/2006/relationships/slide" Target=""/><Relationship Id="rId20" Type="http://schemas.openxmlformats.org/officeDocument/2006/relationships/slide" Target="slide22.xml"/><Relationship Id="rId21" Type="http://schemas.openxmlformats.org/officeDocument/2006/relationships/slide" Target=""/><Relationship Id="rId22" Type="http://schemas.openxmlformats.org/officeDocument/2006/relationships/slide" Target="slide24.xml"/><Relationship Id="rId23" Type="http://schemas.openxmlformats.org/officeDocument/2006/relationships/slide" Target=""/><Relationship Id="rId24" Type="http://schemas.openxmlformats.org/officeDocument/2006/relationships/slide" Target="slide26.xml"/><Relationship Id="rId25" Type="http://schemas.openxmlformats.org/officeDocument/2006/relationships/slide" Target=""/><Relationship Id="rId26" Type="http://schemas.openxmlformats.org/officeDocument/2006/relationships/slide" Target="slide28.xml"/><Relationship Id="rId27" Type="http://schemas.openxmlformats.org/officeDocument/2006/relationships/slide" Target=""/><Relationship Id="rId28" Type="http://schemas.openxmlformats.org/officeDocument/2006/relationships/slide" Target="slide30.xml"/><Relationship Id="rId29" Type="http://schemas.openxmlformats.org/officeDocument/2006/relationships/slide" Target=""/><Relationship Id="rId30" Type="http://schemas.openxmlformats.org/officeDocument/2006/relationships/slide" Target="slide32.xml"/><Relationship Id="rId31" Type="http://schemas.openxmlformats.org/officeDocument/2006/relationships/slide" Target=""/><Relationship Id="rId32" Type="http://schemas.openxmlformats.org/officeDocument/2006/relationships/slide" Target="slide34.xml"/><Relationship Id="rId3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8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8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AutoShape 89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" action="ppaction://hlinksldjump"/>
              </a:rPr>
              <a:t>200 p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AutoShape 90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4" action="ppaction://hlinksldjump"/>
              </a:rPr>
              <a:t>300 p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AutoShape 91">
            <a:hlinkClick r:id="rId5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6" action="ppaction://hlinksldjump"/>
              </a:rPr>
              <a:t>400 p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AutoShape 92">
            <a:hlinkClick r:id="rId7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8" action="ppaction://hlinksldjump"/>
              </a:rPr>
              <a:t>500p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AutoShape 101">
            <a:hlinkClick r:id="rId9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0" action="ppaction://hlinksldjump"/>
              </a:rPr>
              <a:t>100 p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AutoShape 102">
            <a:hlinkClick r:id="rId11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2" action="ppaction://hlinksldjump"/>
              </a:rPr>
              <a:t>200 p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AutoShape 103">
            <a:hlinkClick r:id="rId13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4" action="ppaction://hlinksldjump"/>
              </a:rPr>
              <a:t>300 p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AutoShape 104">
            <a:hlinkClick r:id="rId15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6" action="ppaction://hlinksldjump"/>
              </a:rPr>
              <a:t>400 p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AutoShape 105">
            <a:hlinkClick r:id="rId17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8" action="ppaction://hlinksldjump"/>
              </a:rPr>
              <a:t>500 p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AutoShape 106">
            <a:hlinkClick r:id="rId19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0" action="ppaction://hlinksldjump"/>
              </a:rPr>
              <a:t>100 p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AutoShape 107">
            <a:hlinkClick r:id="rId21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2" action="ppaction://hlinksldjump"/>
              </a:rPr>
              <a:t>200p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AutoShape 108">
            <a:hlinkClick r:id="rId23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4" action="ppaction://hlinksldjump"/>
              </a:rPr>
              <a:t>300 p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AutoShape 109">
            <a:hlinkClick r:id="rId25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6" action="ppaction://hlinksldjump"/>
              </a:rPr>
              <a:t>400p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AutoShape 110">
            <a:hlinkClick r:id="rId27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8" action="ppaction://hlinksldjump"/>
              </a:rPr>
              <a:t>500 p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AutoShape 111">
            <a:hlinkClick r:id="rId29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30" action="ppaction://hlinksldjump"/>
              </a:rPr>
              <a:t>100p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AutoShape 112">
            <a:hlinkClick r:id="rId31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32" action="ppaction://hlinksldjump"/>
              </a:rPr>
              <a:t>200p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AutoShape 113"/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00 p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AutoShape 114"/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00 p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AutoShape 115"/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00 p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AutoShape 116"/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0 p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AutoShape 117"/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0 p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AutoShape 118"/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00 p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AutoShape 119"/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00p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AutoShape 120"/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00 p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AutoShape 40"/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100p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Rectangle 58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halkduster"/>
                <a:ea typeface="Chalkduster"/>
              </a:rPr>
              <a:t>Lines &amp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halkduster"/>
                <a:ea typeface="Chalkduster"/>
              </a:rPr>
              <a:t>Angl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Rectangle 97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halkduster"/>
                <a:ea typeface="Chalkduster"/>
              </a:rPr>
              <a:t>Parallel &amp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halkduster"/>
                <a:ea typeface="Chalkduster"/>
              </a:rPr>
              <a:t>Transversa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halkduster"/>
                <a:ea typeface="Chalkduster"/>
              </a:rPr>
              <a:t>identif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Rectangle 98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halkduster"/>
                <a:ea typeface="Chalkduster"/>
              </a:rPr>
              <a:t>Parallel &amp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halkduster"/>
                <a:ea typeface="Chalkduster"/>
              </a:rPr>
              <a:t>Transversa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halkduster"/>
                <a:ea typeface="Chalkduster"/>
              </a:rPr>
              <a:t>solving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Rectangle 99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halkduster"/>
                <a:ea typeface="Chalkduster"/>
              </a:rPr>
              <a:t>Triangles 1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Rectangle 100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halkduster"/>
                <a:ea typeface="Chalkduster"/>
              </a:rPr>
              <a:t>Triangles 2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Text Box 3"/>
          <p:cNvSpPr/>
          <p:nvPr/>
        </p:nvSpPr>
        <p:spPr>
          <a:xfrm>
            <a:off x="1605240" y="1295280"/>
            <a:ext cx="5950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Find the value of x: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0" name="Picture 4" descr=""/>
          <p:cNvPicPr/>
          <p:nvPr/>
        </p:nvPicPr>
        <p:blipFill>
          <a:blip r:embed="rId1"/>
          <a:srcRect l="77287" t="0" r="2430" b="35661"/>
          <a:stretch/>
        </p:blipFill>
        <p:spPr>
          <a:xfrm>
            <a:off x="1905120" y="2819520"/>
            <a:ext cx="5638680" cy="3246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Text Box 5"/>
          <p:cNvSpPr/>
          <p:nvPr/>
        </p:nvSpPr>
        <p:spPr>
          <a:xfrm>
            <a:off x="3758400" y="2133720"/>
            <a:ext cx="151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X=25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Text Box 4"/>
          <p:cNvSpPr/>
          <p:nvPr/>
        </p:nvSpPr>
        <p:spPr>
          <a:xfrm>
            <a:off x="0" y="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State the angle relationship &amp; property between   1 and    2: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8" name="Picture 5" descr=""/>
          <p:cNvPicPr/>
          <p:nvPr/>
        </p:nvPicPr>
        <p:blipFill>
          <a:blip r:embed="rId1"/>
          <a:stretch/>
        </p:blipFill>
        <p:spPr>
          <a:xfrm>
            <a:off x="685800" y="2438280"/>
            <a:ext cx="8001000" cy="2919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79" name=""/>
              <p:cNvSpPr txBox="1"/>
              <p:nvPr/>
            </p:nvSpPr>
            <p:spPr>
              <a:xfrm>
                <a:off x="3886200" y="1523880"/>
                <a:ext cx="838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0" name=""/>
              <p:cNvSpPr txBox="1"/>
              <p:nvPr/>
            </p:nvSpPr>
            <p:spPr>
              <a:xfrm>
                <a:off x="6629400" y="1523880"/>
                <a:ext cx="838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Ð</m:t>
                    </m:r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Text Box 5"/>
          <p:cNvSpPr/>
          <p:nvPr/>
        </p:nvSpPr>
        <p:spPr>
          <a:xfrm>
            <a:off x="2217960" y="2397240"/>
            <a:ext cx="4870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Vertical angles,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congruent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ext Box 3"/>
          <p:cNvSpPr/>
          <p:nvPr/>
        </p:nvSpPr>
        <p:spPr>
          <a:xfrm>
            <a:off x="0" y="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State the angle relationship &amp; special property between 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1&amp;   2.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7" name=""/>
              <p:cNvSpPr txBox="1"/>
              <p:nvPr/>
            </p:nvSpPr>
            <p:spPr>
              <a:xfrm>
                <a:off x="2743200" y="2286000"/>
                <a:ext cx="838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8" name=""/>
              <p:cNvSpPr txBox="1"/>
              <p:nvPr/>
            </p:nvSpPr>
            <p:spPr>
              <a:xfrm>
                <a:off x="4267080" y="2133720"/>
                <a:ext cx="83844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Ð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89" name="Picture 6" descr=""/>
          <p:cNvPicPr/>
          <p:nvPr/>
        </p:nvPicPr>
        <p:blipFill>
          <a:blip r:embed="rId1"/>
          <a:srcRect l="41847" t="52544" r="40378" b="3347"/>
          <a:stretch/>
        </p:blipFill>
        <p:spPr>
          <a:xfrm>
            <a:off x="1600200" y="3124080"/>
            <a:ext cx="6172200" cy="3116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Text Box 5"/>
          <p:cNvSpPr/>
          <p:nvPr/>
        </p:nvSpPr>
        <p:spPr>
          <a:xfrm>
            <a:off x="1631520" y="1828800"/>
            <a:ext cx="5871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Alternate exterior,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congruent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Text Box 4"/>
          <p:cNvSpPr/>
          <p:nvPr/>
        </p:nvSpPr>
        <p:spPr>
          <a:xfrm>
            <a:off x="3962520" y="0"/>
            <a:ext cx="51814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State the angle relationship &amp; special property of 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d &amp;    e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7" name="Picture 5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3581280" cy="4314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6629400" y="3733920"/>
                <a:ext cx="83808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9" name=""/>
              <p:cNvSpPr txBox="1"/>
              <p:nvPr/>
            </p:nvSpPr>
            <p:spPr>
              <a:xfrm>
                <a:off x="4572000" y="3733920"/>
                <a:ext cx="83808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Ð</m:t>
                    </m:r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Text Box 5"/>
          <p:cNvSpPr/>
          <p:nvPr/>
        </p:nvSpPr>
        <p:spPr>
          <a:xfrm>
            <a:off x="1708920" y="1863720"/>
            <a:ext cx="5746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Alternate interior,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congruent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5" name="Picture 3" descr=""/>
          <p:cNvPicPr/>
          <p:nvPr/>
        </p:nvPicPr>
        <p:blipFill>
          <a:blip r:embed="rId1"/>
          <a:stretch/>
        </p:blipFill>
        <p:spPr>
          <a:xfrm>
            <a:off x="685800" y="3276720"/>
            <a:ext cx="8001000" cy="2919240"/>
          </a:xfrm>
          <a:prstGeom prst="rect">
            <a:avLst/>
          </a:prstGeom>
          <a:ln w="0">
            <a:noFill/>
          </a:ln>
        </p:spPr>
      </p:pic>
      <p:sp>
        <p:nvSpPr>
          <p:cNvPr id="606" name="Rectangle 4"/>
          <p:cNvSpPr/>
          <p:nvPr/>
        </p:nvSpPr>
        <p:spPr>
          <a:xfrm>
            <a:off x="0" y="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State the angle relationship &amp; special property between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3&amp;     4. 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7" name=""/>
              <p:cNvSpPr txBox="1"/>
              <p:nvPr/>
            </p:nvSpPr>
            <p:spPr>
              <a:xfrm>
                <a:off x="4267080" y="2286000"/>
                <a:ext cx="8384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8" name=""/>
              <p:cNvSpPr txBox="1"/>
              <p:nvPr/>
            </p:nvSpPr>
            <p:spPr>
              <a:xfrm>
                <a:off x="2209680" y="2286000"/>
                <a:ext cx="8384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Ð</m:t>
                    </m:r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Text Box 5"/>
          <p:cNvSpPr/>
          <p:nvPr/>
        </p:nvSpPr>
        <p:spPr>
          <a:xfrm>
            <a:off x="1237320" y="1254240"/>
            <a:ext cx="6531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Consecutive interior 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angles,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Supplementary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Text Box 3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Text Box 4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Is angle 1 and 2 acute, obtuse, or right? 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2" name="Picture 8" descr=""/>
          <p:cNvPicPr/>
          <p:nvPr/>
        </p:nvPicPr>
        <p:blipFill>
          <a:blip r:embed="rId1"/>
          <a:srcRect l="4066" t="0" r="4994" b="0"/>
          <a:stretch/>
        </p:blipFill>
        <p:spPr>
          <a:xfrm>
            <a:off x="1066680" y="2514600"/>
            <a:ext cx="7418520" cy="2076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Text Box 4"/>
          <p:cNvSpPr/>
          <p:nvPr/>
        </p:nvSpPr>
        <p:spPr>
          <a:xfrm>
            <a:off x="0" y="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State the angle relationship and special property of 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6 &amp;   2.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16" name="Picture 5" descr=""/>
          <p:cNvPicPr/>
          <p:nvPr/>
        </p:nvPicPr>
        <p:blipFill>
          <a:blip r:embed="rId1"/>
          <a:stretch/>
        </p:blipFill>
        <p:spPr>
          <a:xfrm>
            <a:off x="1905120" y="3048120"/>
            <a:ext cx="5333760" cy="3555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17" name=""/>
              <p:cNvSpPr txBox="1"/>
              <p:nvPr/>
            </p:nvSpPr>
            <p:spPr>
              <a:xfrm>
                <a:off x="2514600" y="2209680"/>
                <a:ext cx="838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8" name=""/>
              <p:cNvSpPr txBox="1"/>
              <p:nvPr/>
            </p:nvSpPr>
            <p:spPr>
              <a:xfrm>
                <a:off x="4419720" y="2209680"/>
                <a:ext cx="838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Ð</m:t>
                    </m:r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Text Box 2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2" name="Text Box 5"/>
          <p:cNvSpPr/>
          <p:nvPr/>
        </p:nvSpPr>
        <p:spPr>
          <a:xfrm>
            <a:off x="1005480" y="2133720"/>
            <a:ext cx="7023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Corresponding angles,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congruent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Text Box 3"/>
          <p:cNvSpPr/>
          <p:nvPr/>
        </p:nvSpPr>
        <p:spPr>
          <a:xfrm>
            <a:off x="1917000" y="304920"/>
            <a:ext cx="5260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Solve for   1 &amp;    2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5" name="Picture 4" descr=""/>
          <p:cNvPicPr/>
          <p:nvPr/>
        </p:nvPicPr>
        <p:blipFill>
          <a:blip r:embed="rId1"/>
          <a:srcRect l="41847" t="52544" r="40378" b="3347"/>
          <a:stretch/>
        </p:blipFill>
        <p:spPr>
          <a:xfrm>
            <a:off x="2209680" y="1371600"/>
            <a:ext cx="4572000" cy="4780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>
                <a:off x="6400800" y="304920"/>
                <a:ext cx="83808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4495680" y="380880"/>
                <a:ext cx="8384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Ð</m:t>
                    </m:r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9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0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Text Box 5"/>
          <p:cNvSpPr/>
          <p:nvPr/>
        </p:nvSpPr>
        <p:spPr>
          <a:xfrm>
            <a:off x="3151800" y="1295280"/>
            <a:ext cx="2794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Verdana"/>
              </a:rPr>
              <a:t>1=103</a:t>
            </a:r>
            <a:endParaRPr b="1" lang="en-US" sz="7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Verdana"/>
              </a:rPr>
              <a:t>2=103</a:t>
            </a:r>
            <a:endParaRPr b="1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32" name="Picture 6" descr=""/>
          <p:cNvPicPr/>
          <p:nvPr/>
        </p:nvPicPr>
        <p:blipFill>
          <a:blip r:embed="rId1"/>
          <a:srcRect l="6853" t="0" r="74656" b="0"/>
          <a:stretch/>
        </p:blipFill>
        <p:spPr>
          <a:xfrm>
            <a:off x="1247760" y="5896080"/>
            <a:ext cx="990720" cy="961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33" name=""/>
              <p:cNvSpPr txBox="1"/>
              <p:nvPr/>
            </p:nvSpPr>
            <p:spPr>
              <a:xfrm>
                <a:off x="2133720" y="1600200"/>
                <a:ext cx="838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2057400" y="2590920"/>
                <a:ext cx="83808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Ð</m:t>
                    </m:r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Text Box 4"/>
          <p:cNvSpPr/>
          <p:nvPr/>
        </p:nvSpPr>
        <p:spPr>
          <a:xfrm>
            <a:off x="2730960" y="380880"/>
            <a:ext cx="3521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Solve for x.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38" name="Picture 5" descr=""/>
          <p:cNvPicPr/>
          <p:nvPr/>
        </p:nvPicPr>
        <p:blipFill>
          <a:blip r:embed="rId1"/>
          <a:srcRect l="6853" t="0" r="74656" b="0"/>
          <a:stretch/>
        </p:blipFill>
        <p:spPr>
          <a:xfrm>
            <a:off x="1752480" y="1447920"/>
            <a:ext cx="4953240" cy="4809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2" name="Text Box 5"/>
          <p:cNvSpPr/>
          <p:nvPr/>
        </p:nvSpPr>
        <p:spPr>
          <a:xfrm>
            <a:off x="3399840" y="2016000"/>
            <a:ext cx="235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Verdana"/>
              </a:rPr>
              <a:t>X=12</a:t>
            </a:r>
            <a:endParaRPr b="1" lang="en-US" sz="7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4" name="Text Box 3"/>
          <p:cNvSpPr/>
          <p:nvPr/>
        </p:nvSpPr>
        <p:spPr>
          <a:xfrm>
            <a:off x="2807280" y="304920"/>
            <a:ext cx="3521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Solve for x.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45" name="Picture 4" descr=""/>
          <p:cNvPicPr/>
          <p:nvPr/>
        </p:nvPicPr>
        <p:blipFill>
          <a:blip r:embed="rId1"/>
          <a:srcRect l="42397" t="0" r="39643" b="16822"/>
          <a:stretch/>
        </p:blipFill>
        <p:spPr>
          <a:xfrm>
            <a:off x="1905120" y="1447920"/>
            <a:ext cx="5257800" cy="4389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Text Box 5"/>
          <p:cNvSpPr/>
          <p:nvPr/>
        </p:nvSpPr>
        <p:spPr>
          <a:xfrm>
            <a:off x="3210840" y="2514600"/>
            <a:ext cx="235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Verdana"/>
              </a:rPr>
              <a:t>X=54</a:t>
            </a:r>
            <a:endParaRPr b="1" lang="en-US" sz="7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Text Box 4"/>
          <p:cNvSpPr/>
          <p:nvPr/>
        </p:nvSpPr>
        <p:spPr>
          <a:xfrm>
            <a:off x="1290240" y="0"/>
            <a:ext cx="629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If   4=2x+25 and   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6=4x+35, Solve for x.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3" name="Picture 5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7010280" cy="4662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152280" y="838080"/>
                <a:ext cx="6858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2133720" y="152280"/>
                <a:ext cx="76176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Ð</m:t>
                    </m:r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Text Box 5"/>
          <p:cNvSpPr/>
          <p:nvPr/>
        </p:nvSpPr>
        <p:spPr>
          <a:xfrm>
            <a:off x="3293640" y="2514600"/>
            <a:ext cx="235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Verdana"/>
              </a:rPr>
              <a:t>X=20</a:t>
            </a:r>
            <a:endParaRPr b="1" lang="en-US" sz="7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Rectangle 4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AutoShape 5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Text Box 6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Text Box 7"/>
          <p:cNvSpPr/>
          <p:nvPr/>
        </p:nvSpPr>
        <p:spPr>
          <a:xfrm>
            <a:off x="2666880" y="213372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Verdana"/>
              </a:rPr>
              <a:t>acute</a:t>
            </a:r>
            <a:endParaRPr b="1" lang="en-US" sz="7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Text Box 3"/>
          <p:cNvSpPr/>
          <p:nvPr/>
        </p:nvSpPr>
        <p:spPr>
          <a:xfrm>
            <a:off x="0" y="228600"/>
            <a:ext cx="8953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Solve for x and y. 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62" name="Picture 4" descr=""/>
          <p:cNvPicPr/>
          <p:nvPr/>
        </p:nvPicPr>
        <p:blipFill>
          <a:blip r:embed="rId1"/>
          <a:srcRect l="73409" t="3635" r="3683" b="13935"/>
          <a:stretch/>
        </p:blipFill>
        <p:spPr>
          <a:xfrm>
            <a:off x="1600200" y="1752480"/>
            <a:ext cx="5867280" cy="4529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4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Text Box 5"/>
          <p:cNvSpPr/>
          <p:nvPr/>
        </p:nvSpPr>
        <p:spPr>
          <a:xfrm>
            <a:off x="3249000" y="1711440"/>
            <a:ext cx="235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Verdana"/>
              </a:rPr>
              <a:t>X=17</a:t>
            </a:r>
            <a:endParaRPr b="1" lang="en-US" sz="7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Verdana"/>
              </a:rPr>
              <a:t>y=35</a:t>
            </a:r>
            <a:endParaRPr b="1" lang="en-US" sz="7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TextBox 3"/>
          <p:cNvSpPr/>
          <p:nvPr/>
        </p:nvSpPr>
        <p:spPr>
          <a:xfrm>
            <a:off x="2581920" y="533520"/>
            <a:ext cx="383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Solve for   1: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0" name="Picture 5" descr=""/>
          <p:cNvPicPr/>
          <p:nvPr/>
        </p:nvPicPr>
        <p:blipFill>
          <a:blip r:embed="rId1"/>
          <a:srcRect l="5788" t="3672" r="76992" b="8011"/>
          <a:stretch/>
        </p:blipFill>
        <p:spPr>
          <a:xfrm>
            <a:off x="2362320" y="1600200"/>
            <a:ext cx="4495680" cy="4270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5410080" y="609480"/>
                <a:ext cx="6858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Ð</m:t>
                    </m:r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3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5" name="TextBox 4"/>
          <p:cNvSpPr/>
          <p:nvPr/>
        </p:nvSpPr>
        <p:spPr>
          <a:xfrm>
            <a:off x="3430440" y="2286000"/>
            <a:ext cx="22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Verdana"/>
              </a:rPr>
              <a:t>1=61</a:t>
            </a:r>
            <a:endParaRPr b="1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6" name=""/>
              <p:cNvSpPr txBox="1"/>
              <p:nvPr/>
            </p:nvSpPr>
            <p:spPr>
              <a:xfrm>
                <a:off x="2209680" y="2438280"/>
                <a:ext cx="1067040" cy="9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Ð</m:t>
                    </m:r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8" name="TextBox 2"/>
          <p:cNvSpPr/>
          <p:nvPr/>
        </p:nvSpPr>
        <p:spPr>
          <a:xfrm>
            <a:off x="2972520" y="152280"/>
            <a:ext cx="352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Solve for x: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9" name="Picture 4" descr=""/>
          <p:cNvPicPr/>
          <p:nvPr/>
        </p:nvPicPr>
        <p:blipFill>
          <a:blip r:embed="rId1"/>
          <a:srcRect l="6191" t="0" r="79434" b="0"/>
          <a:stretch/>
        </p:blipFill>
        <p:spPr>
          <a:xfrm>
            <a:off x="2362320" y="1219320"/>
            <a:ext cx="5105160" cy="4349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1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TextBox 4"/>
          <p:cNvSpPr/>
          <p:nvPr/>
        </p:nvSpPr>
        <p:spPr>
          <a:xfrm>
            <a:off x="3678480" y="2286000"/>
            <a:ext cx="227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Verdana"/>
              </a:rPr>
              <a:t>x=25</a:t>
            </a:r>
            <a:endParaRPr b="1" lang="en-US" sz="7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5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TextBox 3"/>
          <p:cNvSpPr/>
          <p:nvPr/>
        </p:nvSpPr>
        <p:spPr>
          <a:xfrm>
            <a:off x="2787480" y="0"/>
            <a:ext cx="352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Solve for x: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87" name="Picture 5" descr=""/>
          <p:cNvPicPr/>
          <p:nvPr/>
        </p:nvPicPr>
        <p:blipFill>
          <a:blip r:embed="rId1"/>
          <a:srcRect l="38445" t="11610" r="42531" b="20192"/>
          <a:stretch/>
        </p:blipFill>
        <p:spPr>
          <a:xfrm>
            <a:off x="685800" y="1828800"/>
            <a:ext cx="7529400" cy="3276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9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1" name="TextBox 4"/>
          <p:cNvSpPr/>
          <p:nvPr/>
        </p:nvSpPr>
        <p:spPr>
          <a:xfrm>
            <a:off x="3561840" y="2209680"/>
            <a:ext cx="235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Verdana"/>
              </a:rPr>
              <a:t>X=65</a:t>
            </a:r>
            <a:endParaRPr b="1" lang="en-US" sz="7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3" name="TextBox 2"/>
          <p:cNvSpPr/>
          <p:nvPr/>
        </p:nvSpPr>
        <p:spPr>
          <a:xfrm>
            <a:off x="-380880" y="304920"/>
            <a:ext cx="10091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What is the length of segment AB?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4" name="Picture 4" descr=""/>
          <p:cNvPicPr/>
          <p:nvPr/>
        </p:nvPicPr>
        <p:blipFill>
          <a:blip r:embed="rId1"/>
          <a:stretch/>
        </p:blipFill>
        <p:spPr>
          <a:xfrm>
            <a:off x="1523880" y="1828800"/>
            <a:ext cx="5562720" cy="4222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TextBox 4"/>
          <p:cNvSpPr/>
          <p:nvPr/>
        </p:nvSpPr>
        <p:spPr>
          <a:xfrm>
            <a:off x="3191040" y="1752480"/>
            <a:ext cx="247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Verdana"/>
              </a:rPr>
              <a:t>AB=5</a:t>
            </a:r>
            <a:endParaRPr b="1" lang="en-US" sz="7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Text Box 4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Text Box 5"/>
          <p:cNvSpPr/>
          <p:nvPr/>
        </p:nvSpPr>
        <p:spPr>
          <a:xfrm>
            <a:off x="-285840" y="0"/>
            <a:ext cx="94298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What angle is complementary to    JQN?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42" name="Picture 6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705360" cy="4170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6400800" y="838080"/>
                <a:ext cx="76212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Ð</m:t>
                    </m:r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1" name="TextBox 3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Given   a=4x+2,   b=3x-4, and    c=9x.  Solve for x.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02" name="Picture 4" descr=""/>
          <p:cNvPicPr/>
          <p:nvPr/>
        </p:nvPicPr>
        <p:blipFill>
          <a:blip r:embed="rId1"/>
          <a:stretch/>
        </p:blipFill>
        <p:spPr>
          <a:xfrm>
            <a:off x="762120" y="2514600"/>
            <a:ext cx="6875280" cy="3403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03" name=""/>
              <p:cNvSpPr txBox="1"/>
              <p:nvPr/>
            </p:nvSpPr>
            <p:spPr>
              <a:xfrm>
                <a:off x="1752480" y="914400"/>
                <a:ext cx="7542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4" name=""/>
              <p:cNvSpPr txBox="1"/>
              <p:nvPr/>
            </p:nvSpPr>
            <p:spPr>
              <a:xfrm>
                <a:off x="5562720" y="0"/>
                <a:ext cx="7538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5" name=""/>
              <p:cNvSpPr txBox="1"/>
              <p:nvPr/>
            </p:nvSpPr>
            <p:spPr>
              <a:xfrm>
                <a:off x="1981080" y="152280"/>
                <a:ext cx="7542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Ð</m:t>
                    </m:r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7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9" name="TextBox 4"/>
          <p:cNvSpPr/>
          <p:nvPr/>
        </p:nvSpPr>
        <p:spPr>
          <a:xfrm>
            <a:off x="2805840" y="2057400"/>
            <a:ext cx="325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Verdana"/>
              </a:rPr>
              <a:t>X=91/8</a:t>
            </a:r>
            <a:endParaRPr b="1" lang="en-US" sz="7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Text Box 2"/>
          <p:cNvSpPr/>
          <p:nvPr/>
        </p:nvSpPr>
        <p:spPr>
          <a:xfrm>
            <a:off x="1447920" y="30780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11" name="Picture 4" descr=""/>
          <p:cNvPicPr/>
          <p:nvPr/>
        </p:nvPicPr>
        <p:blipFill>
          <a:blip r:embed="rId1"/>
          <a:srcRect l="71572" t="8582" r="7243" b="17163"/>
          <a:stretch/>
        </p:blipFill>
        <p:spPr>
          <a:xfrm>
            <a:off x="762120" y="1905120"/>
            <a:ext cx="7832520" cy="335268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4"/>
          <p:cNvSpPr/>
          <p:nvPr/>
        </p:nvSpPr>
        <p:spPr>
          <a:xfrm>
            <a:off x="0" y="1522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Solve for x, y, and z.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Text Box 2"/>
          <p:cNvSpPr/>
          <p:nvPr/>
        </p:nvSpPr>
        <p:spPr>
          <a:xfrm>
            <a:off x="1447920" y="3048120"/>
            <a:ext cx="62481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6" name="Rectangle 5"/>
          <p:cNvSpPr/>
          <p:nvPr/>
        </p:nvSpPr>
        <p:spPr>
          <a:xfrm>
            <a:off x="2286000" y="2274840"/>
            <a:ext cx="4572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Z=45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X=45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Y=90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Text Box 2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8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9" name="Text Box 4"/>
          <p:cNvSpPr/>
          <p:nvPr/>
        </p:nvSpPr>
        <p:spPr>
          <a:xfrm>
            <a:off x="1030680" y="1482840"/>
            <a:ext cx="7252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Can you create a 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Triangle with the given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Side lengths?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2, 3, 6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1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3" name="Rectangle 5"/>
          <p:cNvSpPr/>
          <p:nvPr/>
        </p:nvSpPr>
        <p:spPr>
          <a:xfrm>
            <a:off x="2286000" y="428760"/>
            <a:ext cx="4572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no!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2+3=5&lt;6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5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Text Box 4"/>
          <p:cNvSpPr/>
          <p:nvPr/>
        </p:nvSpPr>
        <p:spPr>
          <a:xfrm>
            <a:off x="1319400" y="0"/>
            <a:ext cx="6741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List the sides in order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From shortest to 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Longest: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27" name="Picture 5" descr="K2"/>
          <p:cNvPicPr/>
          <p:nvPr/>
        </p:nvPicPr>
        <p:blipFill>
          <a:blip r:embed="rId1"/>
          <a:srcRect l="40641" t="0" r="43609" b="11511"/>
          <a:stretch/>
        </p:blipFill>
        <p:spPr>
          <a:xfrm>
            <a:off x="2438280" y="2438280"/>
            <a:ext cx="4114800" cy="3649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9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0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1" name="Rectangle 5"/>
          <p:cNvSpPr/>
          <p:nvPr/>
        </p:nvSpPr>
        <p:spPr>
          <a:xfrm>
            <a:off x="2433240" y="1752480"/>
            <a:ext cx="421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Verdana"/>
              </a:rPr>
              <a:t>BJ&lt;PB&lt;PJ</a:t>
            </a:r>
            <a:endParaRPr b="1" lang="en-US" sz="7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3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4" name="Text Box 4"/>
          <p:cNvSpPr/>
          <p:nvPr/>
        </p:nvSpPr>
        <p:spPr>
          <a:xfrm>
            <a:off x="1878480" y="533520"/>
            <a:ext cx="5499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Solve for x and y. 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5" name="Picture 5" descr=""/>
          <p:cNvPicPr/>
          <p:nvPr/>
        </p:nvPicPr>
        <p:blipFill>
          <a:blip r:embed="rId1"/>
          <a:srcRect l="4969" t="5643" r="77433" b="26336"/>
          <a:stretch/>
        </p:blipFill>
        <p:spPr>
          <a:xfrm>
            <a:off x="1905120" y="2133720"/>
            <a:ext cx="5257800" cy="3425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Text Box 2"/>
          <p:cNvSpPr/>
          <p:nvPr/>
        </p:nvSpPr>
        <p:spPr>
          <a:xfrm>
            <a:off x="1447920" y="1799640"/>
            <a:ext cx="6248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Verdana"/>
              </a:rPr>
              <a:t>Y=19</a:t>
            </a:r>
            <a:endParaRPr b="1" lang="en-US" sz="7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Verdana"/>
              </a:rPr>
              <a:t>X=25</a:t>
            </a:r>
            <a:endParaRPr b="1" lang="en-US" sz="7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7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 Box 5"/>
          <p:cNvSpPr/>
          <p:nvPr/>
        </p:nvSpPr>
        <p:spPr>
          <a:xfrm>
            <a:off x="4714920" y="290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2590920" y="259092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Verdana"/>
              </a:rPr>
              <a:t>NQL</a:t>
            </a:r>
            <a:endParaRPr b="1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9" name=""/>
              <p:cNvSpPr txBox="1"/>
              <p:nvPr/>
            </p:nvSpPr>
            <p:spPr>
              <a:xfrm>
                <a:off x="2286000" y="2514600"/>
                <a:ext cx="142560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Ð</m:t>
                    </m:r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0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Text Box 4"/>
          <p:cNvSpPr/>
          <p:nvPr/>
        </p:nvSpPr>
        <p:spPr>
          <a:xfrm>
            <a:off x="-304920" y="152280"/>
            <a:ext cx="9448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Find   QDM and list the 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Triangle side lengths in order from shortest to longest. 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2" name="Picture 5" descr="K2"/>
          <p:cNvPicPr/>
          <p:nvPr/>
        </p:nvPicPr>
        <p:blipFill>
          <a:blip r:embed="rId1"/>
          <a:srcRect l="75922" t="-618" r="2597" b="18333"/>
          <a:stretch/>
        </p:blipFill>
        <p:spPr>
          <a:xfrm>
            <a:off x="1676520" y="2209680"/>
            <a:ext cx="5948280" cy="3581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43" name=""/>
              <p:cNvSpPr txBox="1"/>
              <p:nvPr/>
            </p:nvSpPr>
            <p:spPr>
              <a:xfrm>
                <a:off x="2286000" y="228600"/>
                <a:ext cx="6858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Ð</m:t>
                    </m:r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Text Box 2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7" name="Text Box 5"/>
          <p:cNvSpPr/>
          <p:nvPr/>
        </p:nvSpPr>
        <p:spPr>
          <a:xfrm>
            <a:off x="152280" y="1600200"/>
            <a:ext cx="87631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QDM= 44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MQ&lt;QD&lt;MD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8" name=""/>
              <p:cNvSpPr txBox="1"/>
              <p:nvPr/>
            </p:nvSpPr>
            <p:spPr>
              <a:xfrm>
                <a:off x="2209680" y="1752480"/>
                <a:ext cx="6858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Ð</m:t>
                    </m:r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Text Box 3"/>
          <p:cNvSpPr/>
          <p:nvPr/>
        </p:nvSpPr>
        <p:spPr>
          <a:xfrm>
            <a:off x="1219320" y="228600"/>
            <a:ext cx="70102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What angle is supplementary to   NQK?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2" name="Picture 5" descr=""/>
          <p:cNvPicPr/>
          <p:nvPr/>
        </p:nvPicPr>
        <p:blipFill>
          <a:blip r:embed="rId1"/>
          <a:stretch/>
        </p:blipFill>
        <p:spPr>
          <a:xfrm>
            <a:off x="1295280" y="2666880"/>
            <a:ext cx="6248520" cy="38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53" name=""/>
              <p:cNvSpPr txBox="1"/>
              <p:nvPr/>
            </p:nvSpPr>
            <p:spPr>
              <a:xfrm>
                <a:off x="2971800" y="1752480"/>
                <a:ext cx="838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Ð</m:t>
                    </m:r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Text Box 5"/>
          <p:cNvSpPr/>
          <p:nvPr/>
        </p:nvSpPr>
        <p:spPr>
          <a:xfrm>
            <a:off x="3536280" y="2168640"/>
            <a:ext cx="209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Verdana"/>
              </a:rPr>
              <a:t>KQP</a:t>
            </a:r>
            <a:endParaRPr b="1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2286000" y="2133720"/>
                <a:ext cx="142560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Ð</m:t>
                    </m:r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Text Box 4"/>
          <p:cNvSpPr/>
          <p:nvPr/>
        </p:nvSpPr>
        <p:spPr>
          <a:xfrm>
            <a:off x="2590920" y="2133720"/>
            <a:ext cx="38862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Text Box 5"/>
          <p:cNvSpPr/>
          <p:nvPr/>
        </p:nvSpPr>
        <p:spPr>
          <a:xfrm>
            <a:off x="762120" y="1523880"/>
            <a:ext cx="7010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Find the value of x: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63" name="Picture 6" descr=""/>
          <p:cNvPicPr/>
          <p:nvPr/>
        </p:nvPicPr>
        <p:blipFill>
          <a:blip r:embed="rId1"/>
          <a:srcRect l="41309" t="0" r="38475" b="0"/>
          <a:stretch/>
        </p:blipFill>
        <p:spPr>
          <a:xfrm>
            <a:off x="2209680" y="2514600"/>
            <a:ext cx="5105520" cy="4578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Text Box 5"/>
          <p:cNvSpPr/>
          <p:nvPr/>
        </p:nvSpPr>
        <p:spPr>
          <a:xfrm>
            <a:off x="3803040" y="2514600"/>
            <a:ext cx="163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X=15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4T03:51:47Z</dcterms:created>
  <dc:creator>Eleanor M. Savko</dc:creator>
  <dc:description/>
  <dc:language>en-US</dc:language>
  <cp:lastModifiedBy>Karla Heath</cp:lastModifiedBy>
  <dcterms:modified xsi:type="dcterms:W3CDTF">2010-09-14T13:01:21Z</dcterms:modified>
  <cp:revision>47</cp:revision>
  <dc:subject/>
  <dc:title>Blank Jeopardy</dc:title>
</cp:coreProperties>
</file>